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26B8-EDB4-4075-B59A-2D351F0625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58F6-AFA5-45B2-87A0-431BEA91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8ECE8-910A-4BCC-9AFD-BAA41C90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D2E6C7-30DB-4535-9539-28B9FC69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061B37-BCB9-4F83-B82E-5DAB75EE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63D85D-688E-4614-AFFF-80AF5DD2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F4AA80-3B15-461C-B3E5-9CB1C202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AB15DD-B11B-4EAF-9A01-2671C0EB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D4F55-E3D6-4E6F-B0AB-008E2E38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67280E-F6CC-4D46-B863-27BAF7E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ACDA19-B120-4A16-9ABC-B83F4E7D1E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562FF-3693-4327-B011-C9E2468FF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F222-9D75-4C3B-9129-5080EA98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BA33B-CAC9-49B5-B9EF-5290A246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7AC59-3770-447D-8A2C-52EFAB3F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4B358-3473-49A4-9B27-F5D5DBCF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05B4C-9C1F-4D3F-9E7E-6B19D6E5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34319-7C20-465D-B87E-224DC322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3D453-01ED-471F-9E69-73963D13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A145-8C87-416F-B8E4-E9232968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CF708-4EDF-4CFA-8BE4-1022F62F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5490F-07EA-43D6-B6A7-CD2F3A5A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2FB1-5490-43D7-BBEE-1675953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DEFC-4960-4C16-8449-1309921F9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913CD-F160-4E23-B37B-84E51689E6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C57ABB-CCEF-4629-8689-C4B1D25C0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F97CD-BE39-4ACB-AC46-EB80EB78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B9144C-9AC4-43C9-B08C-4559C777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59E30-1B7B-43C2-ABD4-03AB4F56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A1FA47-721E-433A-8E0D-27D8FAF1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581CA-DB6E-4653-B180-0F70882C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483C7-C62C-429F-A043-6DC252B2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CEF95-F089-4352-9618-21CD6CD5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3DB545-61DF-4864-B6E8-437DA1A3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EF8DA-6FFD-49F9-8A58-D91786DE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878F30-E1E7-4233-964E-3EDDEC6A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EA4C4-85A0-40A4-AE36-8332DEE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3118E-7782-4C1F-8840-AD6B43597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D55B5-A386-46E7-9197-073E2383A8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C1928-18FB-46FA-A33F-FFB45DBC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2503D-382E-43D0-9DB1-C9CF050F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A6605-BC4C-4DDE-8E15-1613F55A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D18EC-E339-4D94-A473-FAB0F0D9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4BA9F-2C93-4AA4-9788-ADE036B3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6CBE8-D4CB-45CB-9AB3-6BDA0BBB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EB183-79BD-4D53-B429-71B070EF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F3173-0FA0-4AEE-9722-3EB276E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ED99B-4D04-4A78-A9F5-D69A96A7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5D07B-44B6-43C1-8CF0-0DB35AEC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0DDD5-F42E-4959-A4F2-30F83F89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981E9-A776-4FA9-8646-F8EEF143C2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2A530-F08C-4CC9-B607-48F081F62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99BB9-5516-48E9-8835-BCF20284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D5E79-EDE9-4306-96D2-FF4DE248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1EA89-43D3-4597-9ED6-98F81A48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9A906-7656-4C83-8F99-EC126E73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01399-7BD9-4391-BC39-59B9741D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AD716-EE2D-449A-B63B-B860FADF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12E20-BA5A-451B-8790-6F43AFD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DFFB7-57C1-4DA5-847D-57F6CAB6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1AEFB-9AA2-4DF5-BF54-CF9070E0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4E2CB-335A-4604-8F97-340FEF59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B4E2F-1391-4870-AAC9-8A6E2AE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A083E-5336-4A53-9DFD-282581B31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2ED4C-A90E-4736-9D09-41BBD53A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8F658-78FB-4435-A811-2EF155C4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4F211-8985-486F-8A1A-1C888D6C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38E4A-9A7C-4866-BF89-16FB397F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B3D4B-EDDB-4F4B-A636-8B9E5DFD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ECA18-AF96-43AB-8429-5AC0BC49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67A40-E165-4C7B-BDEB-D2B21E5C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539E8-3A53-4105-90CB-B6484E65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8FDE2-9999-412F-85E9-B64257F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294E4-489A-48CC-A772-7E20F10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854B0-E53D-46D9-A1AC-1C647AAE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F27CC-0DC4-42E2-B689-92A592DF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E1C4E-FAE6-4D8F-AE15-6D291793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5103E-FF3B-403C-A7FB-339FA55E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851B4-1016-4E61-8313-B8EAEEB4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78938-C990-458F-950B-C21C3FC6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E2917-B17B-48DC-80C9-120EA9F2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37914-C14F-4DBF-8E07-52921809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A25E9-8EEB-47FB-9E47-42B279EA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73DB9-CDA5-4DCC-8E4F-7B19A19B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D8F3-8F0E-4649-ABC2-AC5B29B6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9B2DD-7F79-496B-9D65-AE7460A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665EC-8270-4988-9178-7CC62C0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8E4C7-DE11-4C98-AC64-F9924A7C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02E93-706C-49B5-87EB-BC9D6E12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73023-C384-49AC-9D4E-B6DB4DDC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D0EDF-CEC9-4FE9-AF20-016E18B7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74340-FE4B-469B-A607-D20378AC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AB95E-E858-42AB-A9E6-BB8A3DD8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36FB4-85CD-4CF3-B952-F20FE9C8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88BC4-7021-4FFD-A747-7F4BF4D4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0002C-7F97-42D2-B468-9D2083D1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466D2-9F73-488F-94B4-9515935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4E3B2-6DD5-4BD9-B8B5-DE4607F7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401B3-995B-4ADB-8907-D2963D0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60E1C-6027-4AA8-8AB0-4BC02147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D7D29-B4D3-47F0-9B3D-D11E490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5AB29-C129-4E3F-86C8-334E9F4B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F813F-7A2B-43EA-B1A3-2D5BB466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0483E-F93F-4A56-8CDB-D70C194A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52D6B-43A3-431A-B1CC-C81D3765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163E8-FE03-4F42-BC83-EDA1A868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D59E3-EAB9-45E3-A50E-7B5352D7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6686D-8C62-47F7-8ED3-0B2BE06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24DF4-3FBF-4223-9E47-686D8F46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24334-9D71-41C4-BF01-ED3B5E6D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0C370-FBAF-4E35-BA26-630BE0D3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B623-FFBC-42E7-899D-F76FB471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22EF6-7B09-4C6A-AD1E-5A0D7F3A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7CBBE-A9F3-43A3-B3C3-9C4B3E1B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424A4-62AB-42C2-B104-5DC7B47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842E4-B4CC-4DA3-A743-67C6900A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1E612-DB42-461E-9A3F-9D2A1D38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EC36B-811B-4FE3-B330-7E639B4B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AC741-40EC-46F6-9CE7-EAC535F0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97CA4-74CE-4E59-B688-551CA4C4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AF85F-A32D-4954-B4CA-F4C9756B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27376-1245-4C1C-A27E-859375A3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9C10C-E6E3-4AC5-84E9-AA1FDB9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1FB42-3D78-45F3-8A19-507A3C6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660C6-A1DA-4916-96C3-3083A80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0F3FE-6DCA-4652-9249-7943DB42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CC9D9-1BA8-4997-85FE-AEE5B539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265CD-C7CB-4D82-A5F2-15FBD166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30D88-AE02-4411-92AF-727577CF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5F6FF-1820-4A0F-A4C8-4C8D8BBD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17F37-BA25-45EA-85BE-5522AE1D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CC318-A080-40E0-B6AA-11274FEB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328F2-8E8B-4318-A168-3A83CE2C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FCEEC-6102-4C66-9D04-1E45933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9D8AB-B77E-4007-89BD-BC4F3702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E4488-32D6-4AED-B1F1-06E7BAC3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786DB-9380-4F9F-AD6B-4E3DA274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9B59A-DC37-4B50-9405-3360B923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FDAD8-2745-4495-841B-A069174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97FBF-9248-4D8A-BCA1-8C60E5B4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AC1FA-D661-47DA-9FE7-F11CDDA2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F9EAA-7D80-44D5-96D2-F0D80F70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FDA53-39AD-4744-B242-9B4C3B1E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08524-7C04-44FF-B753-A71588AE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05252-C4A8-48A4-B16A-30F4C3E1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1D500-9EC2-49FB-8F16-49D71F19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D6DA6-5224-4F8E-BF58-19D5D6DF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C4DEC-4452-4770-8461-CCDDBA2B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F1396-AC47-42E5-8A05-F7351ED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BD646-95BE-4783-9AF6-B2429438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345AA-9F0C-47AD-B1B7-6B8C5A0C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B904E-539C-4AAC-A847-EFDD6F92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97E3D-71BF-40A9-A109-5501884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5EDA4-A306-47F8-89FB-B467EF4E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7628F-50F7-4F59-B768-1D809A1B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70E66-BDD9-4120-95EB-CE9A2D3F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8A59B-7A6D-40F5-9C4A-C3571B89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24781-6FFE-4B06-A131-2179FFB5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7512E-DF5D-43A9-9266-CC95CE23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E34F8-9450-4852-9C67-08396EBC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DD0C3-32DB-41E1-9CDE-429C0BB5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72547-3B6D-46BA-8BBC-7AF727AE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CFE9F-E99C-47D6-BBE3-E307B56D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B291C-343B-4E43-82CF-4F5E9608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4BE0B-80DB-476D-824D-E7B2BED5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BBE8C0-C30D-4643-BC2D-BE3E753C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3311C-6858-4174-BB3F-9C84817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6AAB6-3A75-49B7-A6BA-76334F069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37E37-4B28-4D16-A517-D647DD48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A05DC-DF72-4D6A-BE20-39456CD7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DE693-6293-4137-BA43-545EB407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9D6DE-1CDB-4824-BC98-3318A7D9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0E508-E538-48C4-9D48-135CC690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E73DF-CB39-4054-8CE2-7386A733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5D40B-41A5-4B90-B60F-74ADD679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2849A-6C9E-497F-86E7-15A461B2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8BA79-4108-45BA-AA60-CF8A5AD3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16AE8C-A586-4D5B-880B-BADB76EB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2765DA-228B-4747-B89F-ED8F17A7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D820A-8DF6-4855-BA4B-BC373D5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0C7B1-6228-40CB-801A-C39B85C8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35257E-EA6F-4C9D-A5D6-E2766EC6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7367DB-4AA9-47B7-860A-A8D19E30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570BF-0AF8-439D-9391-200BE005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4FEC88-77BB-4FFF-9C3D-0CBF651F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C1573-4C18-49FC-880C-7E610CFB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51B56-46DE-417B-B1F6-49666C04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D9464-E872-4223-86DB-4C9063BD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CD711-835B-46E3-BEB2-CED49977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D9EB6-C0BB-41D9-BC94-934967B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70BD88-7BD6-4D9F-B52A-D2DE1E2B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89E92-7D3D-4594-83BD-4D0D2715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BB8A2-35BD-4DA0-97F6-7AA31F66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BB644-AB77-492A-84D4-F13CA8F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55456B-C3F8-4B04-A502-259F8429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A5D96-72C6-4E22-8792-D26DB57A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E7361-8E66-4E85-8C76-BF7C7D9A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998EE-A7A4-4A3F-9869-DA4ABC3A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3E0E86-A937-4B1C-9B8C-B5B170CB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96C53C-6E61-4C7C-87A3-546899C4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0F4F5-C5E9-432C-9D28-9ED67A29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727102-6121-42F3-856E-9D308E04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6FDCF2-E188-4C3F-8C3F-DC0F01BA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81CEE-C969-42CC-8CCB-72AA62F2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35666B-0705-4268-B9F9-E60FF86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8E834-3BF0-483C-BBFD-08944361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E39BC2-D5E6-47BB-9499-525EC09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89895B-46F0-4856-B1E4-7BFB9826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9D04E-FC9A-4EE8-B039-0CFD1F13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B57080-07EB-4235-B298-BA5DF277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7590E-9A0D-4F76-B8EE-319F4132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B8CE-E8D1-4883-90F9-131CDC84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D01C6-8958-44CB-996A-DFDC5878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440EF-19B0-4DBA-8790-E4E2075D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E7AF9D-1007-49A9-B99D-7373F7BC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A8EFD-8E94-4A93-9DFE-FE457007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B5D1E-3553-4F0D-9596-54C2F583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C15DF-A4A4-479C-83AA-453792CD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2DF63-B172-4775-AA3A-C6EEBB799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DB28-B316-4DD5-92B3-A38B447FCD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EF22-0FFE-4C15-BD0D-210FAD0F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2C67-BAF4-4282-AA5D-ED2D1175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46C1-E328-449B-85B2-0AFBC554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2E0F-6A19-4F90-A1A6-3BEC236B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47CC-1B8C-4B80-B40B-5C315207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87A5-7B2D-41D8-94C1-986F0E37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451E-3F52-4B78-BF77-0CDE6E2C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927D-308C-4402-80D6-D19EF0AD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CDE3-027A-4921-8053-9784A2B1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4382-6C04-4FA4-91DB-0131CB56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F89A-1A09-4ADD-8E1F-98DB056E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CF7D-F70D-471B-950A-E79B51FF2E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87B24-6707-45C2-A332-7DBB2ACE7D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EC95-DA9B-4269-B932-F17E0A2A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75C24-4910-44D4-9C04-40A1CEC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266BB-63C4-42E2-8EF5-1DBCF109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A3085-9AB5-42B2-B920-472BCBD4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D1A7C0-F701-40D4-8B95-2D65ED63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14367-C520-4FBB-849C-5100AA5D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55625-8034-4D3F-BE75-93D3803A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B7B4C-BF63-42AA-B865-CB624436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D35FF-A951-404A-A0AD-BC37A2E7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DA1EB-3E7C-49E2-8DD2-13E649C0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3322D-9954-43C5-BD23-8088DB4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1F37-86C8-47BE-B50F-86681720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922B9-5271-4F83-A97C-A7D4BFCC1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635BB9-7D13-4839-8562-2809A76207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079FBA-D906-4A85-AD3F-1E5D62B7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955C95-E8F9-4EBB-8B0C-8B6722BA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18515A-F873-40CE-8907-30529491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45A514-1AAE-4530-8080-212FC18E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A62C2-25D0-42CF-B879-863DFA92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EB4337-42F0-4D72-856F-994507FD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881010-DC7B-4F00-ABC4-E88B87C4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CF528-EF2E-4C13-B3F9-65528988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9942-A8B5-4813-B715-C1CFC5E6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47042-78CB-46FA-98F4-BB74FC1A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6B4F29-CA04-4E21-A977-0B48D739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2F056-ACE4-477B-99A1-46E4B8C6A6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A7F75-E7FE-4743-A19C-66EFFF17A1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7A8FC-9CCB-4A3E-93FB-F24F8A9D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EEFD9-9B8D-4EF9-9E33-79ECE2E2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8644A-17DE-4800-8CAD-6D82881A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FC1F-5222-4EBC-A2ED-FEC68828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7F60E-7A2E-4282-B16C-2C4EABAE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D4A25-B01F-4BED-BDC5-42F8B873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9DBA-CD1B-4EBE-8153-0837D777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AA2D-AB6A-4E26-9881-A62B41E0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939B-E493-4919-BC9D-1B2C3BA8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4CD2-4E3C-4C81-936A-A0B6F7E2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66EC-A2B1-4AA1-B667-C4D13D7C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36416-4565-4DE5-8A6F-2AA9D4BED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D3ADF-23B3-4392-B3BE-47D2929970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7D434-E2B9-4E26-B596-D21633FF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531D6-B8AD-49F7-ADBA-55FB8F5D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EA491-E2D0-490E-8298-AAF6258A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AC012-2193-484F-B103-66E0715C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3ACF-02E5-44BC-BC77-B4AD415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54BA5-418A-4871-BA7E-0574E7E9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A6F5F-B155-4B55-BB6F-3FEC9B2B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9FBFC-8954-474C-B758-10517DB8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AC7EE-9433-4FD0-B6F1-5F9A75E0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ED5EA-A1B2-472A-9360-4A5018BF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476DC-A90E-49C3-810F-182BBA2A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992F7-5143-4970-A447-2B5AB19615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12E392-5578-440D-B621-8102036AA5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FA7333-E69C-4118-8819-16974ED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F3D2BC-C51A-48BD-BBC1-DEEA3DA8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E995-DE20-4665-A060-9F711660A9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8CE3-69CD-4512-BA5D-2B56FDB674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2E5B-EBCA-40D9-A62D-445574CA701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6672-5DCB-4C3A-8F21-5E2322B3B52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54CA-7633-4B69-9844-1657510EAD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9BE7-4289-444B-92AC-5C7048BB93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2A0C-CD9E-4CC1-AD8D-F8EAD00645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1C42-D82B-4577-AD52-FB81EDF280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217D-6F29-4D14-9835-92842213029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7BAF-B1AF-45EF-8BE6-E8ECBB853F0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908F-893B-4DDF-ACEF-8CB48B7BC5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B411-04AC-470D-A492-DD86798885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E66B-BC36-4809-93DC-F51D33A4E31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17E-4E9E-4520-953A-4B7DB5E3E1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8708-D070-40D0-9009-E308D962A4A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8705-288F-4AC0-A410-F5A0033DD2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1856-2B8E-43A5-9D74-8D6DEF035E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74BB-5979-4ACD-90E9-E8EBA504F6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9123-8A2F-4B7E-B487-5B04F2C4F3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E49B-FBB6-426E-9019-5102029023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4C8D-E2B8-42CB-AEF5-B8CA70C828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0E6E-C806-497E-813A-5143614F38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C8BD-285D-47BD-BD1A-6D3EE11D82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28BC-713E-4A00-9669-8E17989E84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51648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画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1714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度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538200" y="117360"/>
            <a:ext cx="310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引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2053440" y="981000"/>
            <a:ext cx="4908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用一副三角尺画出下面的角，说一说你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怎样画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30°                        90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你能画出任意度数的角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31747"/>
          <p:cNvGrpSpPr/>
          <p:nvPr/>
        </p:nvGrpSpPr>
        <p:grpSpPr>
          <a:xfrm>
            <a:off x="1567800" y="2995200"/>
            <a:ext cx="1367640" cy="765720"/>
            <a:chOff x="1567800" y="2995200"/>
            <a:chExt cx="1367640" cy="765720"/>
          </a:xfrm>
        </p:grpSpPr>
        <p:grpSp>
          <p:nvGrpSpPr>
            <p:cNvPr id="1012" name="组合 31748"/>
            <p:cNvGrpSpPr/>
            <p:nvPr/>
          </p:nvGrpSpPr>
          <p:grpSpPr>
            <a:xfrm>
              <a:off x="1567800" y="2995200"/>
              <a:ext cx="1367640" cy="684360"/>
              <a:chOff x="1567800" y="2995200"/>
              <a:chExt cx="1367640" cy="68436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1568160" y="3679200"/>
                <a:ext cx="1367280" cy="360"/>
                <a:chOff x="1568160" y="3679200"/>
                <a:chExt cx="1367280" cy="360"/>
              </a:xfrm>
            </p:grpSpPr>
            <p:sp>
              <p:nvSpPr>
                <p:cNvPr id="1014" name="直接连接符 31749"/>
                <p:cNvSpPr/>
                <p:nvPr/>
              </p:nvSpPr>
              <p:spPr>
                <a:xfrm>
                  <a:off x="1568160" y="3679200"/>
                  <a:ext cx="1367280" cy="360"/>
                </a:xfrm>
                <a:prstGeom prst="line">
                  <a:avLst/>
                </a:prstGeom>
                <a:ln w="255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 txBox="1"/>
                <p:nvPr/>
              </p:nvSpPr>
              <p:spPr>
                <a:xfrm>
                  <a:off x="1568160" y="3679200"/>
                  <a:ext cx="136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1567800" y="2995200"/>
                <a:ext cx="1184400" cy="684000"/>
                <a:chOff x="1567800" y="2995200"/>
                <a:chExt cx="1184400" cy="684000"/>
              </a:xfrm>
            </p:grpSpPr>
            <p:sp>
              <p:nvSpPr>
                <p:cNvPr id="1017" name="直接连接符 31750"/>
                <p:cNvSpPr/>
                <p:nvPr/>
              </p:nvSpPr>
              <p:spPr>
                <a:xfrm flipV="1">
                  <a:off x="1567800" y="2995200"/>
                  <a:ext cx="1184400" cy="683640"/>
                </a:xfrm>
                <a:prstGeom prst="line">
                  <a:avLst/>
                </a:prstGeom>
                <a:ln w="255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 txBox="1"/>
                <p:nvPr/>
              </p:nvSpPr>
              <p:spPr>
                <a:xfrm rot="19800000">
                  <a:off x="1476000" y="3336840"/>
                  <a:ext cx="136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9" name="任意多边形 31751"/>
            <p:cNvSpPr/>
            <p:nvPr/>
          </p:nvSpPr>
          <p:spPr>
            <a:xfrm>
              <a:off x="1856160" y="3488400"/>
              <a:ext cx="75960" cy="179280"/>
            </a:xfrm>
            <a:custGeom>
              <a:avLst/>
              <a:gdLst/>
              <a:ahLst/>
              <a:rect l="l" t="t" r="r" b="b"/>
              <a:pathLst>
                <a:path fill="none" w="21600" h="17069">
                  <a:moveTo>
                    <a:pt x="13237" y="0"/>
                  </a:moveTo>
                  <a:cubicBezTo>
                    <a:pt x="18326" y="3951"/>
                    <a:pt x="21600" y="10128"/>
                    <a:pt x="21600" y="17069"/>
                  </a:cubicBezTo>
                </a:path>
                <a:path stroke="0" w="21600" h="17069">
                  <a:moveTo>
                    <a:pt x="21600" y="17069"/>
                  </a:moveTo>
                  <a:cubicBezTo>
                    <a:pt x="21582" y="16333"/>
                    <a:pt x="21572" y="15581"/>
                    <a:pt x="21572" y="14820"/>
                  </a:cubicBezTo>
                  <a:cubicBezTo>
                    <a:pt x="21572" y="4142"/>
                    <a:pt x="23444" y="-4514"/>
                    <a:pt x="25753" y="-4514"/>
                  </a:cubicBezTo>
                  <a:cubicBezTo>
                    <a:pt x="28062" y="-4514"/>
                    <a:pt x="29934" y="4142"/>
                    <a:pt x="29934" y="14820"/>
                  </a:cubicBezTo>
                  <a:cubicBezTo>
                    <a:pt x="29934" y="15682"/>
                    <a:pt x="29922" y="16531"/>
                    <a:pt x="29898" y="17358"/>
                  </a:cubicBezTo>
                  <a:lnTo>
                    <a:pt x="13237" y="0"/>
                  </a:lnTo>
                  <a:close/>
                </a:path>
              </a:pathLst>
            </a:custGeom>
            <a:noFill/>
            <a:ln w="255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文本框 31752"/>
            <p:cNvSpPr/>
            <p:nvPr/>
          </p:nvSpPr>
          <p:spPr>
            <a:xfrm>
              <a:off x="1960200" y="3286080"/>
              <a:ext cx="66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cc0000"/>
                  </a:solidFill>
                  <a:latin typeface="Arial"/>
                  <a:ea typeface="宋体"/>
                </a:rPr>
                <a:t>30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3780000" y="6310440"/>
            <a:ext cx="1440" cy="360"/>
            <a:chOff x="3780000" y="6310440"/>
            <a:chExt cx="1440" cy="360"/>
          </a:xfrm>
        </p:grpSpPr>
        <p:sp>
          <p:nvSpPr>
            <p:cNvPr id="1022" name="直接连接符 31753"/>
            <p:cNvSpPr/>
            <p:nvPr/>
          </p:nvSpPr>
          <p:spPr>
            <a:xfrm>
              <a:off x="3780000" y="6310440"/>
              <a:ext cx="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 txBox="1"/>
            <p:nvPr/>
          </p:nvSpPr>
          <p:spPr>
            <a:xfrm>
              <a:off x="3780000" y="6310440"/>
              <a:ext cx="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组合 31754"/>
          <p:cNvGrpSpPr/>
          <p:nvPr/>
        </p:nvGrpSpPr>
        <p:grpSpPr>
          <a:xfrm>
            <a:off x="5014800" y="2647800"/>
            <a:ext cx="1511280" cy="1491480"/>
            <a:chOff x="5014800" y="2647800"/>
            <a:chExt cx="1511280" cy="1491480"/>
          </a:xfrm>
        </p:grpSpPr>
        <p:grpSp>
          <p:nvGrpSpPr>
            <p:cNvPr id="1025" name="组合 31755"/>
            <p:cNvGrpSpPr/>
            <p:nvPr/>
          </p:nvGrpSpPr>
          <p:grpSpPr>
            <a:xfrm>
              <a:off x="5014800" y="2647800"/>
              <a:ext cx="1511280" cy="1440000"/>
              <a:chOff x="5014800" y="2647800"/>
              <a:chExt cx="1511280" cy="1440000"/>
            </a:xfrm>
          </p:grpSpPr>
          <p:grpSp>
            <p:nvGrpSpPr>
              <p:cNvPr id="1026" name=""/>
              <p:cNvGrpSpPr/>
              <p:nvPr/>
            </p:nvGrpSpPr>
            <p:grpSpPr>
              <a:xfrm>
                <a:off x="5014800" y="4087440"/>
                <a:ext cx="1511280" cy="360"/>
                <a:chOff x="5014800" y="4087440"/>
                <a:chExt cx="1511280" cy="360"/>
              </a:xfrm>
            </p:grpSpPr>
            <p:sp>
              <p:nvSpPr>
                <p:cNvPr id="1027" name="直接连接符 31756"/>
                <p:cNvSpPr/>
                <p:nvPr/>
              </p:nvSpPr>
              <p:spPr>
                <a:xfrm>
                  <a:off x="5014800" y="4087440"/>
                  <a:ext cx="1511280" cy="360"/>
                </a:xfrm>
                <a:prstGeom prst="line">
                  <a:avLst/>
                </a:prstGeom>
                <a:ln w="255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 txBox="1"/>
                <p:nvPr/>
              </p:nvSpPr>
              <p:spPr>
                <a:xfrm>
                  <a:off x="5014800" y="4087440"/>
                  <a:ext cx="151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015880" y="2647800"/>
                <a:ext cx="360" cy="1436400"/>
                <a:chOff x="5015880" y="2647800"/>
                <a:chExt cx="360" cy="1436400"/>
              </a:xfrm>
            </p:grpSpPr>
            <p:sp>
              <p:nvSpPr>
                <p:cNvPr id="1030" name="直接连接符 31757"/>
                <p:cNvSpPr/>
                <p:nvPr/>
              </p:nvSpPr>
              <p:spPr>
                <a:xfrm flipH="1">
                  <a:off x="5015880" y="2647800"/>
                  <a:ext cx="360" cy="1436400"/>
                </a:xfrm>
                <a:prstGeom prst="line">
                  <a:avLst/>
                </a:prstGeom>
                <a:ln w="255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 txBox="1"/>
                <p:nvPr/>
              </p:nvSpPr>
              <p:spPr>
                <a:xfrm rot="5400000">
                  <a:off x="4297680" y="3365640"/>
                  <a:ext cx="143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2" name="矩形 31758"/>
              <p:cNvSpPr/>
              <p:nvPr/>
            </p:nvSpPr>
            <p:spPr>
              <a:xfrm>
                <a:off x="5018040" y="3962520"/>
                <a:ext cx="130680" cy="124200"/>
              </a:xfrm>
              <a:prstGeom prst="rect">
                <a:avLst/>
              </a:prstGeom>
              <a:noFill/>
              <a:ln w="255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文本框 31759"/>
            <p:cNvSpPr/>
            <p:nvPr/>
          </p:nvSpPr>
          <p:spPr>
            <a:xfrm>
              <a:off x="5118480" y="3664440"/>
              <a:ext cx="66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cc0000"/>
                  </a:solidFill>
                  <a:latin typeface="Arial"/>
                  <a:ea typeface="宋体"/>
                </a:rPr>
                <a:t>90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5" name=""/>
          <p:cNvSpPr txBox="1"/>
          <p:nvPr/>
        </p:nvSpPr>
        <p:spPr>
          <a:xfrm>
            <a:off x="538200" y="357660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画一条射线，使量角器的中心和射线的端点重合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刻度线和射线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在量角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刻度线的地方点一个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以画出的射线的端点为端点，通过刚画的点，再画一条射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21"/>
          <p:cNvSpPr/>
          <p:nvPr/>
        </p:nvSpPr>
        <p:spPr>
          <a:xfrm>
            <a:off x="538200" y="117360"/>
            <a:ext cx="310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4"/>
          <p:cNvGrpSpPr/>
          <p:nvPr/>
        </p:nvGrpSpPr>
        <p:grpSpPr>
          <a:xfrm>
            <a:off x="539640" y="1898640"/>
            <a:ext cx="2759040" cy="1419120"/>
            <a:chOff x="539640" y="1898640"/>
            <a:chExt cx="2759040" cy="1419120"/>
          </a:xfrm>
        </p:grpSpPr>
        <p:pic>
          <p:nvPicPr>
            <p:cNvPr id="1048" name="Picture 5" descr="86"/>
            <p:cNvPicPr/>
            <p:nvPr/>
          </p:nvPicPr>
          <p:blipFill>
            <a:blip r:embed="rId8"/>
            <a:stretch/>
          </p:blipFill>
          <p:spPr>
            <a:xfrm>
              <a:off x="539640" y="1898640"/>
              <a:ext cx="2592720" cy="141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9" name=""/>
            <p:cNvGrpSpPr/>
            <p:nvPr/>
          </p:nvGrpSpPr>
          <p:grpSpPr>
            <a:xfrm>
              <a:off x="1858320" y="3189960"/>
              <a:ext cx="1440360" cy="720"/>
              <a:chOff x="1858320" y="3189960"/>
              <a:chExt cx="1440360" cy="720"/>
            </a:xfrm>
          </p:grpSpPr>
          <p:sp>
            <p:nvSpPr>
              <p:cNvPr id="1050" name="Line 6"/>
              <p:cNvSpPr/>
              <p:nvPr/>
            </p:nvSpPr>
            <p:spPr>
              <a:xfrm>
                <a:off x="1858320" y="3189960"/>
                <a:ext cx="1440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 txBox="1"/>
              <p:nvPr/>
            </p:nvSpPr>
            <p:spPr>
              <a:xfrm>
                <a:off x="1858320" y="3189960"/>
                <a:ext cx="14403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Oval 7"/>
            <p:cNvSpPr/>
            <p:nvPr/>
          </p:nvSpPr>
          <p:spPr>
            <a:xfrm flipH="1" flipV="1">
              <a:off x="1811880" y="316152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Text Box 8"/>
          <p:cNvSpPr/>
          <p:nvPr/>
        </p:nvSpPr>
        <p:spPr>
          <a:xfrm>
            <a:off x="1162440" y="7668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画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9"/>
          <p:cNvGrpSpPr/>
          <p:nvPr/>
        </p:nvGrpSpPr>
        <p:grpSpPr>
          <a:xfrm>
            <a:off x="3203640" y="1100160"/>
            <a:ext cx="3348000" cy="2217600"/>
            <a:chOff x="3203640" y="1100160"/>
            <a:chExt cx="3348000" cy="2217600"/>
          </a:xfrm>
        </p:grpSpPr>
        <p:pic>
          <p:nvPicPr>
            <p:cNvPr id="1055" name="Picture 10" descr="86"/>
            <p:cNvPicPr/>
            <p:nvPr/>
          </p:nvPicPr>
          <p:blipFill>
            <a:blip r:embed="rId9"/>
            <a:stretch/>
          </p:blipFill>
          <p:spPr>
            <a:xfrm>
              <a:off x="3792240" y="1898640"/>
              <a:ext cx="2592720" cy="141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6" name=""/>
            <p:cNvGrpSpPr/>
            <p:nvPr/>
          </p:nvGrpSpPr>
          <p:grpSpPr>
            <a:xfrm>
              <a:off x="5110920" y="3190320"/>
              <a:ext cx="1440720" cy="360"/>
              <a:chOff x="5110920" y="3190320"/>
              <a:chExt cx="1440720" cy="360"/>
            </a:xfrm>
          </p:grpSpPr>
          <p:sp>
            <p:nvSpPr>
              <p:cNvPr id="1057" name="Line 11"/>
              <p:cNvSpPr/>
              <p:nvPr/>
            </p:nvSpPr>
            <p:spPr>
              <a:xfrm>
                <a:off x="5110920" y="3190320"/>
                <a:ext cx="1440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 txBox="1"/>
              <p:nvPr/>
            </p:nvSpPr>
            <p:spPr>
              <a:xfrm>
                <a:off x="5110920" y="3190320"/>
                <a:ext cx="144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Oval 12"/>
            <p:cNvSpPr/>
            <p:nvPr/>
          </p:nvSpPr>
          <p:spPr>
            <a:xfrm flipH="1" flipV="1">
              <a:off x="5064480" y="3160800"/>
              <a:ext cx="54000" cy="5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Picture 13" descr="87"/>
            <p:cNvPicPr/>
            <p:nvPr/>
          </p:nvPicPr>
          <p:blipFill>
            <a:blip r:embed="rId10"/>
            <a:stretch/>
          </p:blipFill>
          <p:spPr>
            <a:xfrm>
              <a:off x="5756400" y="1100160"/>
              <a:ext cx="56376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Oval 14"/>
            <p:cNvSpPr/>
            <p:nvPr/>
          </p:nvSpPr>
          <p:spPr>
            <a:xfrm>
              <a:off x="5727240" y="2011680"/>
              <a:ext cx="35280" cy="3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15"/>
            <p:cNvSpPr/>
            <p:nvPr/>
          </p:nvSpPr>
          <p:spPr>
            <a:xfrm>
              <a:off x="3203640" y="2421360"/>
              <a:ext cx="576000" cy="144000"/>
            </a:xfrm>
            <a:prstGeom prst="rightArrow">
              <a:avLst>
                <a:gd name="adj1" fmla="val 50000"/>
                <a:gd name="adj2" fmla="val 9983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16"/>
          <p:cNvGrpSpPr/>
          <p:nvPr/>
        </p:nvGrpSpPr>
        <p:grpSpPr>
          <a:xfrm>
            <a:off x="6581880" y="2060280"/>
            <a:ext cx="2140920" cy="1212120"/>
            <a:chOff x="6581880" y="2060280"/>
            <a:chExt cx="2140920" cy="1212120"/>
          </a:xfrm>
        </p:grpSpPr>
        <p:grpSp>
          <p:nvGrpSpPr>
            <p:cNvPr id="1064" name=""/>
            <p:cNvGrpSpPr/>
            <p:nvPr/>
          </p:nvGrpSpPr>
          <p:grpSpPr>
            <a:xfrm>
              <a:off x="7283160" y="3204720"/>
              <a:ext cx="1439640" cy="360"/>
              <a:chOff x="7283160" y="3204720"/>
              <a:chExt cx="1439640" cy="360"/>
            </a:xfrm>
          </p:grpSpPr>
          <p:sp>
            <p:nvSpPr>
              <p:cNvPr id="1065" name="Line 17"/>
              <p:cNvSpPr/>
              <p:nvPr/>
            </p:nvSpPr>
            <p:spPr>
              <a:xfrm>
                <a:off x="7283160" y="3204720"/>
                <a:ext cx="14396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7283160" y="3204720"/>
                <a:ext cx="143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Oval 18"/>
            <p:cNvSpPr/>
            <p:nvPr/>
          </p:nvSpPr>
          <p:spPr>
            <a:xfrm flipH="1" flipV="1">
              <a:off x="7236360" y="3176280"/>
              <a:ext cx="5364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7257240" y="2060280"/>
              <a:ext cx="647280" cy="1153080"/>
              <a:chOff x="7257240" y="2060280"/>
              <a:chExt cx="647280" cy="1153080"/>
            </a:xfrm>
          </p:grpSpPr>
          <p:sp>
            <p:nvSpPr>
              <p:cNvPr id="1069" name="Line 19"/>
              <p:cNvSpPr/>
              <p:nvPr/>
            </p:nvSpPr>
            <p:spPr>
              <a:xfrm flipV="1">
                <a:off x="7257240" y="2060280"/>
                <a:ext cx="647280" cy="115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 txBox="1"/>
              <p:nvPr/>
            </p:nvSpPr>
            <p:spPr>
              <a:xfrm rot="10800000">
                <a:off x="7257240" y="2060280"/>
                <a:ext cx="647280" cy="115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Arc 20"/>
            <p:cNvSpPr/>
            <p:nvPr/>
          </p:nvSpPr>
          <p:spPr>
            <a:xfrm rot="1500000">
              <a:off x="7322040" y="3053520"/>
              <a:ext cx="155880" cy="128880"/>
            </a:xfrm>
            <a:custGeom>
              <a:avLst/>
              <a:gdLst/>
              <a:ahLst/>
              <a:rect l="l" t="t" r="r" b="b"/>
              <a:pathLst>
                <a:path fill="none" w="21575" h="21600">
                  <a:moveTo>
                    <a:pt x="-1" y="0"/>
                  </a:moveTo>
                  <a:cubicBezTo>
                    <a:pt x="11529" y="0"/>
                    <a:pt x="21026" y="9054"/>
                    <a:pt x="21575" y="20570"/>
                  </a:cubicBezTo>
                </a:path>
                <a:path stroke="0" w="21575" h="21600">
                  <a:moveTo>
                    <a:pt x="-1" y="0"/>
                  </a:moveTo>
                  <a:cubicBezTo>
                    <a:pt x="11529" y="0"/>
                    <a:pt x="21026" y="9054"/>
                    <a:pt x="21575" y="2057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21"/>
            <p:cNvSpPr/>
            <p:nvPr/>
          </p:nvSpPr>
          <p:spPr>
            <a:xfrm>
              <a:off x="7403760" y="2812680"/>
              <a:ext cx="6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AutoShape 22"/>
            <p:cNvSpPr/>
            <p:nvPr/>
          </p:nvSpPr>
          <p:spPr>
            <a:xfrm>
              <a:off x="6581880" y="2421000"/>
              <a:ext cx="575640" cy="144000"/>
            </a:xfrm>
            <a:prstGeom prst="rightArrow">
              <a:avLst>
                <a:gd name="adj1" fmla="val 50000"/>
                <a:gd name="adj2" fmla="val 997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八边形 7"/>
          <p:cNvSpPr/>
          <p:nvPr/>
        </p:nvSpPr>
        <p:spPr>
          <a:xfrm>
            <a:off x="31428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5"/>
          <p:cNvSpPr/>
          <p:nvPr/>
        </p:nvSpPr>
        <p:spPr>
          <a:xfrm>
            <a:off x="1243800" y="984240"/>
            <a:ext cx="38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别画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5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5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6"/>
          <p:cNvSpPr/>
          <p:nvPr/>
        </p:nvSpPr>
        <p:spPr>
          <a:xfrm>
            <a:off x="579600" y="3443400"/>
            <a:ext cx="64213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画出下面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°       30°       8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90°       120°    1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260360" y="3143160"/>
            <a:ext cx="2160720" cy="1800"/>
            <a:chOff x="1260360" y="3143160"/>
            <a:chExt cx="2160720" cy="1800"/>
          </a:xfrm>
        </p:grpSpPr>
        <p:sp>
          <p:nvSpPr>
            <p:cNvPr id="1078" name="Line 2"/>
            <p:cNvSpPr/>
            <p:nvPr/>
          </p:nvSpPr>
          <p:spPr>
            <a:xfrm>
              <a:off x="1260360" y="3143160"/>
              <a:ext cx="2160720" cy="1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>
              <a:off x="1260360" y="3143160"/>
              <a:ext cx="216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5292720" y="3143160"/>
            <a:ext cx="2160720" cy="1800"/>
            <a:chOff x="5292720" y="3143160"/>
            <a:chExt cx="2160720" cy="1800"/>
          </a:xfrm>
        </p:grpSpPr>
        <p:sp>
          <p:nvSpPr>
            <p:cNvPr id="1081" name="Line 2"/>
            <p:cNvSpPr/>
            <p:nvPr/>
          </p:nvSpPr>
          <p:spPr>
            <a:xfrm>
              <a:off x="5292720" y="3143160"/>
              <a:ext cx="2160720" cy="1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>
              <a:off x="5292720" y="3143160"/>
              <a:ext cx="216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4" name="Rectangle 64"/>
          <p:cNvSpPr/>
          <p:nvPr/>
        </p:nvSpPr>
        <p:spPr>
          <a:xfrm>
            <a:off x="655560" y="185760"/>
            <a:ext cx="24465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6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32"/>
          <p:cNvSpPr/>
          <p:nvPr/>
        </p:nvSpPr>
        <p:spPr>
          <a:xfrm>
            <a:off x="77760" y="925560"/>
            <a:ext cx="8448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画指定度数的角，要注意做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重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量角器的中心与射线的端点重合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刻度线与所画的一条射线重合。还要做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所画的射线对应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刻度在内圈，看的就是内圈刻度；所画的射线对应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刻度在外圈，看的就是外圈刻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9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99"/>
          <p:cNvSpPr/>
          <p:nvPr/>
        </p:nvSpPr>
        <p:spPr>
          <a:xfrm>
            <a:off x="206280" y="752400"/>
            <a:ext cx="8956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填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画角的步骤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画一条（    ），使量角器的（    ）和（    ）的顶点重合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0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刻度线和射线重合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在量角器上对准要画的度数刻度线的地方（    ）一个点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以画出的射线的端点为（    ），通过刚画的（    ），再画一条射线。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 179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角是（   ）角；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9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角是（   ）角；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9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角是（  ）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两个角的和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0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其中一个角是锐角，另一个角是（    ）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2"/>
          <p:cNvSpPr/>
          <p:nvPr/>
        </p:nvSpPr>
        <p:spPr>
          <a:xfrm>
            <a:off x="1862280" y="179856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3"/>
          <p:cNvSpPr/>
          <p:nvPr/>
        </p:nvSpPr>
        <p:spPr>
          <a:xfrm>
            <a:off x="4405320" y="179856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4"/>
          <p:cNvSpPr/>
          <p:nvPr/>
        </p:nvSpPr>
        <p:spPr>
          <a:xfrm>
            <a:off x="5823000" y="1781280"/>
            <a:ext cx="4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6"/>
          <p:cNvSpPr/>
          <p:nvPr/>
        </p:nvSpPr>
        <p:spPr>
          <a:xfrm>
            <a:off x="5807160" y="2701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7"/>
          <p:cNvSpPr/>
          <p:nvPr/>
        </p:nvSpPr>
        <p:spPr>
          <a:xfrm>
            <a:off x="3638520" y="3156120"/>
            <a:ext cx="8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端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8"/>
          <p:cNvSpPr/>
          <p:nvPr/>
        </p:nvSpPr>
        <p:spPr>
          <a:xfrm>
            <a:off x="6324480" y="3154320"/>
            <a:ext cx="5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9"/>
          <p:cNvSpPr/>
          <p:nvPr/>
        </p:nvSpPr>
        <p:spPr>
          <a:xfrm>
            <a:off x="2298600" y="3622680"/>
            <a:ext cx="5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10"/>
          <p:cNvSpPr/>
          <p:nvPr/>
        </p:nvSpPr>
        <p:spPr>
          <a:xfrm>
            <a:off x="4959360" y="362412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12"/>
          <p:cNvSpPr/>
          <p:nvPr/>
        </p:nvSpPr>
        <p:spPr>
          <a:xfrm>
            <a:off x="7556400" y="3614760"/>
            <a:ext cx="5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14"/>
          <p:cNvSpPr/>
          <p:nvPr/>
        </p:nvSpPr>
        <p:spPr>
          <a:xfrm>
            <a:off x="6815160" y="408636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6:00Z</dcterms:created>
  <dc:creator/>
  <dc:description/>
  <dc:language>en-US</dc:language>
  <cp:lastModifiedBy>万润仪器贸易公司</cp:lastModifiedBy>
  <dcterms:modified xsi:type="dcterms:W3CDTF">2020-08-21T08:54:40Z</dcterms:modified>
  <cp:revision>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